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5124113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268600" y="68400"/>
            <a:ext cx="709560" cy="382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1047924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1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31640" y="738360"/>
            <a:ext cx="14259240" cy="9432720"/>
            <a:chOff x="431640" y="738360"/>
            <a:chExt cx="14259240" cy="9432720"/>
          </a:xfrm>
        </p:grpSpPr>
        <p:sp>
          <p:nvSpPr>
            <p:cNvPr id="3" name=""/>
            <p:cNvSpPr/>
            <p:nvPr/>
          </p:nvSpPr>
          <p:spPr>
            <a:xfrm>
              <a:off x="431640" y="738360"/>
              <a:ext cx="2592720" cy="504720"/>
            </a:xfrm>
            <a:prstGeom prst="rect">
              <a:avLst/>
            </a:prstGeom>
            <a:noFill/>
            <a:ln w="1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24360" y="738360"/>
              <a:ext cx="11666520" cy="9432720"/>
            </a:xfrm>
            <a:prstGeom prst="rect">
              <a:avLst/>
            </a:prstGeom>
            <a:noFill/>
            <a:ln w="1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24360" y="738360"/>
              <a:ext cx="11666520" cy="504720"/>
            </a:xfrm>
            <a:prstGeom prst="rect">
              <a:avLst/>
            </a:prstGeom>
            <a:noFill/>
            <a:ln w="1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431640" y="1243080"/>
            <a:ext cx="2592720" cy="892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31640" y="2233440"/>
            <a:ext cx="1425924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31640" y="3225960"/>
            <a:ext cx="1425924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31640" y="4218120"/>
            <a:ext cx="1425924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31640" y="6202440"/>
            <a:ext cx="1425924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31640" y="5210280"/>
            <a:ext cx="1425924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31640" y="7194600"/>
            <a:ext cx="1425924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31640" y="8186760"/>
            <a:ext cx="1425924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31640" y="9178920"/>
            <a:ext cx="1425924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52400" y="131436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項目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52400" y="232236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項目②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52400" y="33307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項目③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752400" y="43387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項目④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752400" y="5275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項目⑤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752400" y="628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項目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752400" y="7291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項目⑦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752400" y="822816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項目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752400" y="923616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項目⑨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3024360" y="738360"/>
            <a:ext cx="11666160" cy="9432360"/>
            <a:chOff x="3024360" y="738360"/>
            <a:chExt cx="11666160" cy="9432360"/>
          </a:xfrm>
        </p:grpSpPr>
        <p:sp>
          <p:nvSpPr>
            <p:cNvPr id="61" name=""/>
            <p:cNvSpPr/>
            <p:nvPr/>
          </p:nvSpPr>
          <p:spPr>
            <a:xfrm>
              <a:off x="1431144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26160" y="738360"/>
              <a:ext cx="37584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4360" y="1258200"/>
              <a:ext cx="376200" cy="891252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0236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00560" y="1258200"/>
              <a:ext cx="375840" cy="891252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7892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7676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5512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5296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31680" y="738360"/>
              <a:ext cx="37584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2952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0752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05720" y="1258200"/>
              <a:ext cx="37584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8408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8084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5920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57400" y="1258200"/>
              <a:ext cx="375840" cy="891252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576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33600" y="1258200"/>
              <a:ext cx="376200" cy="891252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1196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09800" y="1258200"/>
              <a:ext cx="376200" cy="891252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88520" y="738360"/>
              <a:ext cx="37584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8636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6436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62560" y="1258200"/>
              <a:ext cx="37584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4092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3876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1712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1532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93680" y="738360"/>
              <a:ext cx="37584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91520" y="1258200"/>
              <a:ext cx="375840" cy="891252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6988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67720" y="1258200"/>
              <a:ext cx="376200" cy="891252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4608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04392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422640" y="738360"/>
              <a:ext cx="37584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2048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9884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796680" y="1258200"/>
              <a:ext cx="37584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7504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17288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55124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54944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27800" y="738360"/>
              <a:ext cx="37584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25640" y="1258200"/>
              <a:ext cx="376200" cy="891252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0400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302200" y="1258200"/>
              <a:ext cx="375840" cy="891252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68020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67804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5676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05460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432960" y="738360"/>
              <a:ext cx="37584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430800" y="1258200"/>
              <a:ext cx="37584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80916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80700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8572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183560" y="1258200"/>
              <a:ext cx="376200" cy="891252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561920" y="738360"/>
              <a:ext cx="37584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59760" y="1258200"/>
              <a:ext cx="376200" cy="891252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93812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936320" y="1258200"/>
              <a:ext cx="375840" cy="891252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314320" y="738360"/>
              <a:ext cx="376200" cy="28692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31216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25080" y="1025280"/>
              <a:ext cx="376200" cy="23256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01640" y="1025280"/>
              <a:ext cx="376200" cy="23256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784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54400" y="1025280"/>
              <a:ext cx="37584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024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0680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8192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58480" y="1025280"/>
              <a:ext cx="376200" cy="23256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34680" y="1025280"/>
              <a:ext cx="375840" cy="23256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088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708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364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39840" y="1025280"/>
              <a:ext cx="37584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1604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92600" y="1025280"/>
              <a:ext cx="376200" cy="23256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68800" y="1025280"/>
              <a:ext cx="376200" cy="23256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45360" y="1025280"/>
              <a:ext cx="37584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42120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79776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17396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54944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925640" y="1025280"/>
              <a:ext cx="376200" cy="23256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302200" y="1025280"/>
              <a:ext cx="375840" cy="23256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67804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05460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430800" y="1025280"/>
              <a:ext cx="37584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80700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183560" y="1025280"/>
              <a:ext cx="376200" cy="232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559760" y="1025280"/>
              <a:ext cx="376200" cy="23256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936320" y="1025280"/>
              <a:ext cx="375840" cy="23256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45080" y="174636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5080" y="275436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45080" y="369108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45080" y="469908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"/>
          <p:cNvGrpSpPr/>
          <p:nvPr/>
        </p:nvGrpSpPr>
        <p:grpSpPr>
          <a:xfrm>
            <a:off x="3024360" y="722160"/>
            <a:ext cx="11666520" cy="9448920"/>
            <a:chOff x="3024360" y="722160"/>
            <a:chExt cx="11666520" cy="9448920"/>
          </a:xfrm>
        </p:grpSpPr>
        <p:sp>
          <p:nvSpPr>
            <p:cNvPr id="920" name=""/>
            <p:cNvSpPr/>
            <p:nvPr/>
          </p:nvSpPr>
          <p:spPr>
            <a:xfrm>
              <a:off x="3024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2616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00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027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777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789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53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554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298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531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906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907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82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833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577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599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3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0361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1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268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8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892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632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654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53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416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1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182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9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9476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668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6709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0450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047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42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4237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79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8002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17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1764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55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552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92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92924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1303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130580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167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16820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05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20582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243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4347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28091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28113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185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31875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356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5637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93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94028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3146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2724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40380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780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565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532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9093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844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66100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3720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13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789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1665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427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9192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29548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720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0486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424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801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1775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5526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92924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130580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1682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20582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434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8113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1875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356372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394028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3136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43146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"/>
          <p:cNvGrpSpPr/>
          <p:nvPr/>
        </p:nvGrpSpPr>
        <p:grpSpPr>
          <a:xfrm>
            <a:off x="3024360" y="722160"/>
            <a:ext cx="11666160" cy="9448920"/>
            <a:chOff x="3024360" y="722160"/>
            <a:chExt cx="11666160" cy="9448920"/>
          </a:xfrm>
        </p:grpSpPr>
        <p:sp>
          <p:nvSpPr>
            <p:cNvPr id="1017" name=""/>
            <p:cNvSpPr/>
            <p:nvPr/>
          </p:nvSpPr>
          <p:spPr>
            <a:xfrm>
              <a:off x="41918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243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81000" y="1243080"/>
              <a:ext cx="38844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4131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96980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019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586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907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74740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799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362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687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253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35752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1308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7452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0188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3440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69104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5232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07984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120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4686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3008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8574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899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92466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0787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63540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4675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002420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8563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041300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2451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8021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6343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19096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0231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57976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41192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9685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8007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235772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118988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274616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157868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313532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196784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5241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35628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391328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7454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43017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13424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5230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9118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3010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929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58208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70880" y="1009800"/>
              <a:ext cx="38844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596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84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376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644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1416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303320" y="1009800"/>
              <a:ext cx="38844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9176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0809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4697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85888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92473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96364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025280" y="1009800"/>
              <a:ext cx="38844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041408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08028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1920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158084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19696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235772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274616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313532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5241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91328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3017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80304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8030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0265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41532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0265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1532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"/>
          <p:cNvGrpSpPr/>
          <p:nvPr/>
        </p:nvGrpSpPr>
        <p:grpSpPr>
          <a:xfrm>
            <a:off x="3024360" y="722160"/>
            <a:ext cx="11666160" cy="9448920"/>
            <a:chOff x="3024360" y="722160"/>
            <a:chExt cx="11666160" cy="9448920"/>
          </a:xfrm>
        </p:grpSpPr>
        <p:sp>
          <p:nvSpPr>
            <p:cNvPr id="1111" name=""/>
            <p:cNvSpPr/>
            <p:nvPr/>
          </p:nvSpPr>
          <p:spPr>
            <a:xfrm>
              <a:off x="340272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024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789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400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551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7676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31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1529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90788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529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840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9057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6602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8228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0357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574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1196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3360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885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409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16472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786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5409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62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9171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53912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293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915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66988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291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904608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66808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942264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90439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79884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4204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01750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97966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05512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017324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9278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05494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304000" y="1243080"/>
              <a:ext cx="37584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0925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168020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13022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20567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167840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24329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054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280952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430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31857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80736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35619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3183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93848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5597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43143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3936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431252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4034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8000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56200" y="1009800"/>
              <a:ext cx="37584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5324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908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851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6172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0368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13040" y="1009800"/>
              <a:ext cx="37584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892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5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54200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9182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94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670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9047160" y="1009800"/>
              <a:ext cx="37584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942336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97999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1761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55268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9288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130400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168020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05676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432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280952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31857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35619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393848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31432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26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0272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7" name=""/>
          <p:cNvGrpSpPr/>
          <p:nvPr/>
        </p:nvGrpSpPr>
        <p:grpSpPr>
          <a:xfrm>
            <a:off x="3024360" y="722160"/>
            <a:ext cx="11666520" cy="9448920"/>
            <a:chOff x="3024360" y="722160"/>
            <a:chExt cx="11666520" cy="9448920"/>
          </a:xfrm>
        </p:grpSpPr>
        <p:sp>
          <p:nvSpPr>
            <p:cNvPr id="1208" name=""/>
            <p:cNvSpPr/>
            <p:nvPr/>
          </p:nvSpPr>
          <p:spPr>
            <a:xfrm>
              <a:off x="3024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00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261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77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4027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53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789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298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1554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06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31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82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07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577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8336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03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6599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41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361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78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12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1632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892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3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654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1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416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9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91820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668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947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0450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6709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942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047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79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4237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17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98002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055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01764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92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55268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1303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92924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167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3058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05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16820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243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0582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28091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4347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3185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28113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356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31875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393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35637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43146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272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403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80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565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532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082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8444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66100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0372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413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789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665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427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1928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29548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6720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0486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424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9801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1764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055268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9292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305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682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20582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2434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8113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318752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56372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9402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9413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43136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43146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2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4" name=""/>
          <p:cNvGrpSpPr/>
          <p:nvPr/>
        </p:nvGrpSpPr>
        <p:grpSpPr>
          <a:xfrm>
            <a:off x="3024360" y="722160"/>
            <a:ext cx="11666160" cy="9448920"/>
            <a:chOff x="3024360" y="722160"/>
            <a:chExt cx="11666160" cy="9448920"/>
          </a:xfrm>
        </p:grpSpPr>
        <p:sp>
          <p:nvSpPr>
            <p:cNvPr id="1305" name=""/>
            <p:cNvSpPr/>
            <p:nvPr/>
          </p:nvSpPr>
          <p:spPr>
            <a:xfrm>
              <a:off x="302436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42648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82896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3108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63356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02652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3604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42900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43816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83004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3956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232520" y="1243080"/>
              <a:ext cx="40212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4204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634640" y="1243080"/>
              <a:ext cx="40212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4416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3712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4628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3924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4876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4172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5124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24384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25336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4632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65584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48800" y="1243080"/>
              <a:ext cx="40212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05832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50920" y="1243080"/>
              <a:ext cx="40212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46044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85340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86292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5552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026504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65800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066752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06048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06964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946260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47212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865080" y="1243080"/>
              <a:ext cx="40212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187460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0267560" y="1243080"/>
              <a:ext cx="40212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227708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066968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267920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07180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308132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7428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348380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187676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88592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227888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4288400" y="722160"/>
              <a:ext cx="4021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2681360" y="1243080"/>
              <a:ext cx="40212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3081320" y="1243080"/>
              <a:ext cx="40212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02760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2972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3112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33240" y="1009800"/>
              <a:ext cx="40212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635720" y="1009800"/>
              <a:ext cx="40212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03820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4032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4280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24528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4740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049880" y="1009800"/>
              <a:ext cx="40212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52000" y="1009800"/>
              <a:ext cx="40212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85448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25660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65908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906156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946260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865080" y="1009800"/>
              <a:ext cx="40212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0267560" y="1009800"/>
              <a:ext cx="40212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066968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107180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147428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187676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227888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2681360" y="1009800"/>
              <a:ext cx="40212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3083840" y="1009800"/>
              <a:ext cx="40212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348272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388484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4287320" y="1243080"/>
              <a:ext cx="4021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348272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388484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4287320" y="1009800"/>
              <a:ext cx="4021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3024360" y="722160"/>
            <a:ext cx="11666160" cy="9448920"/>
            <a:chOff x="3024360" y="722160"/>
            <a:chExt cx="11666160" cy="9448920"/>
          </a:xfrm>
        </p:grpSpPr>
        <p:sp>
          <p:nvSpPr>
            <p:cNvPr id="1396" name=""/>
            <p:cNvSpPr/>
            <p:nvPr/>
          </p:nvSpPr>
          <p:spPr>
            <a:xfrm>
              <a:off x="340272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24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789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400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551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77676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531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529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0788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29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840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9057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602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28228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0357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6574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41196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03360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885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409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16472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786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409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162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9171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3912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293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915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66988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291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904608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66808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942264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90439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979884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4204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17504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97966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5512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17324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9278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05494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30400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0925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68020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13022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0567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167840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4329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054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80952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430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31857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280736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35619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3183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3938480" y="1243080"/>
              <a:ext cx="3758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5597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43143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936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4312520" y="722160"/>
              <a:ext cx="3758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4034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000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156200" y="1009800"/>
              <a:ext cx="37584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5324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908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2851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6172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368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413040" y="1009800"/>
              <a:ext cx="37584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892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65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54200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9182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294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670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047160" y="1009800"/>
              <a:ext cx="37584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942336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97999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1761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55268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288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30400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168020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205676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2432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280952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1857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619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938480" y="1009800"/>
              <a:ext cx="3758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431432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026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272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3024360" y="722160"/>
            <a:ext cx="11666160" cy="9448920"/>
            <a:chOff x="3024360" y="722160"/>
            <a:chExt cx="11666160" cy="9448920"/>
          </a:xfrm>
        </p:grpSpPr>
        <p:sp>
          <p:nvSpPr>
            <p:cNvPr id="162" name=""/>
            <p:cNvSpPr/>
            <p:nvPr/>
          </p:nvSpPr>
          <p:spPr>
            <a:xfrm>
              <a:off x="302436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4088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7760" y="722160"/>
              <a:ext cx="41616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7428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2652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9116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43400" y="1243080"/>
              <a:ext cx="41616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768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992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24560" y="722160"/>
              <a:ext cx="41616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7572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4000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92240" y="1243080"/>
              <a:ext cx="41616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56880" y="722160"/>
              <a:ext cx="41616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8760" y="1243080"/>
              <a:ext cx="41652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7340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2564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9028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2520" y="1243080"/>
              <a:ext cx="41616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0680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904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23680" y="722160"/>
              <a:ext cx="41616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7556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4020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92440" y="1243080"/>
              <a:ext cx="41652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5708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09320" y="1243080"/>
              <a:ext cx="41616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273600" y="722160"/>
              <a:ext cx="41616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25840" y="1243080"/>
              <a:ext cx="41652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9012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4236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0700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85924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52388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276120" y="1243080"/>
              <a:ext cx="41616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940760" y="722160"/>
              <a:ext cx="41616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69264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35728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10952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77380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526040" y="1243080"/>
              <a:ext cx="41616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19068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942560" y="1243080"/>
              <a:ext cx="41652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607560" y="722160"/>
              <a:ext cx="41616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5944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02408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77632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44060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192840" y="1243080"/>
              <a:ext cx="41616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857480" y="722160"/>
              <a:ext cx="41616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60936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74000" y="722160"/>
              <a:ext cx="41652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02624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443120" y="1243080"/>
              <a:ext cx="41652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60000" y="1243080"/>
              <a:ext cx="41616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760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4448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6100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644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93320" y="1009800"/>
              <a:ext cx="41652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0200" y="1009800"/>
              <a:ext cx="41616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2672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4360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6012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7000" y="1009800"/>
              <a:ext cx="41616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9352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10400" y="1009800"/>
              <a:ext cx="41652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26920" y="1009800"/>
              <a:ext cx="41616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4344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86032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27720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694080" y="1009800"/>
              <a:ext cx="41616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10952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526040" y="1009800"/>
              <a:ext cx="41616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942560" y="1009800"/>
              <a:ext cx="41652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35944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77632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192840" y="1009800"/>
              <a:ext cx="41616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60936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02624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443120" y="1009800"/>
              <a:ext cx="41652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860000" y="1009800"/>
              <a:ext cx="41616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72920" y="1243080"/>
              <a:ext cx="41652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274000" y="1009800"/>
              <a:ext cx="41652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3024360" y="722160"/>
            <a:ext cx="11666520" cy="9448920"/>
            <a:chOff x="3024360" y="722160"/>
            <a:chExt cx="11666520" cy="9448920"/>
          </a:xfrm>
        </p:grpSpPr>
        <p:sp>
          <p:nvSpPr>
            <p:cNvPr id="250" name=""/>
            <p:cNvSpPr/>
            <p:nvPr/>
          </p:nvSpPr>
          <p:spPr>
            <a:xfrm>
              <a:off x="3024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0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77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53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6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298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027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06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89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82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44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577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3096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3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071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1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833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8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599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632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361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3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12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1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892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9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6544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68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4164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450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82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2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47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9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09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17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47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55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4237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92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80028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303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17648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67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5268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05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292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43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3058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8091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6820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185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0582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56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43260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93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8091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3146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272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03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80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554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3168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082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844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61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372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13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89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6652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4272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192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954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720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486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4237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80028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17648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5526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9292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305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682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0582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3476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1132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1853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5597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9359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125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1842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5608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9374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3136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024360" y="722160"/>
            <a:ext cx="11666160" cy="9448920"/>
            <a:chOff x="3024360" y="722160"/>
            <a:chExt cx="11666160" cy="9448920"/>
          </a:xfrm>
        </p:grpSpPr>
        <p:sp>
          <p:nvSpPr>
            <p:cNvPr id="347" name=""/>
            <p:cNvSpPr/>
            <p:nvPr/>
          </p:nvSpPr>
          <p:spPr>
            <a:xfrm>
              <a:off x="30243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243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1316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31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02320" y="1243080"/>
              <a:ext cx="38844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0232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07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907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99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99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687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687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5788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5788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456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456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34760" y="1243080"/>
              <a:ext cx="38844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347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2320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232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123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3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011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011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9032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9032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91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91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679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4679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57080" y="1243080"/>
              <a:ext cx="38844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85708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24588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24588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63468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63468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238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0238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1264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1264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8014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8014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1906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1906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57940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794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968560" y="1243080"/>
              <a:ext cx="38844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9685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3570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3570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7461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7461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3496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1349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5237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5237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91292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9129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30172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3017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2544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1424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304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922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8100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698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5896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466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3548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24640" y="1009800"/>
              <a:ext cx="38844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134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022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914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020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690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85816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24696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63612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02456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4137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8025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1906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57940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968560" y="1009800"/>
              <a:ext cx="38844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570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4616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3496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52376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9129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30172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3024360" y="722160"/>
            <a:ext cx="11666520" cy="9448920"/>
            <a:chOff x="3024360" y="722160"/>
            <a:chExt cx="11666520" cy="9448920"/>
          </a:xfrm>
        </p:grpSpPr>
        <p:sp>
          <p:nvSpPr>
            <p:cNvPr id="441" name=""/>
            <p:cNvSpPr/>
            <p:nvPr/>
          </p:nvSpPr>
          <p:spPr>
            <a:xfrm>
              <a:off x="3024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00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261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77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027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53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89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298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5548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06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3168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2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07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577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8336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3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599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1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361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8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126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632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892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3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654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1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416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9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1820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68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947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0450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6709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42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047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79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4237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17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8002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55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1764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92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55268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303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92924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67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3058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05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6820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43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0582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8091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4347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185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8113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56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1875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93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5637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146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272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03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80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565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32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082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8444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100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72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13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9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665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427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1928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9548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6720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0486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424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801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1764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55268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9292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305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6820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0582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4347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8113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18752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56372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9374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3136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9381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3146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3024360" y="722160"/>
            <a:ext cx="11666160" cy="9448920"/>
            <a:chOff x="3024360" y="722160"/>
            <a:chExt cx="11666160" cy="9448920"/>
          </a:xfrm>
        </p:grpSpPr>
        <p:sp>
          <p:nvSpPr>
            <p:cNvPr id="538" name=""/>
            <p:cNvSpPr/>
            <p:nvPr/>
          </p:nvSpPr>
          <p:spPr>
            <a:xfrm>
              <a:off x="30243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131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019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907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799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265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687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1532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5752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030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452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84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3440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81000" y="1243080"/>
              <a:ext cx="38844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232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698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120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586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008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4740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899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362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0787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5253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4675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1416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8563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03320" y="1243080"/>
              <a:ext cx="38844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451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917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6343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809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0231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697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41192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85888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8007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2473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18988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63648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57868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025280" y="1243080"/>
              <a:ext cx="38844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96784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41408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35628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0288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7454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11920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13424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8084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5230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9696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9118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35844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3010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74544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272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164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041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9292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8208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7088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596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484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376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2644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1524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0404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9320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0816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708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596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2473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63648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025280" y="1009800"/>
              <a:ext cx="38844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4140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8028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1920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58084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9696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35844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74760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13424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5230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91184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3010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1353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5241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91328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43017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3024360" y="722160"/>
            <a:ext cx="11666520" cy="9448920"/>
            <a:chOff x="3024360" y="722160"/>
            <a:chExt cx="11666520" cy="9448920"/>
          </a:xfrm>
        </p:grpSpPr>
        <p:sp>
          <p:nvSpPr>
            <p:cNvPr id="632" name=""/>
            <p:cNvSpPr/>
            <p:nvPr/>
          </p:nvSpPr>
          <p:spPr>
            <a:xfrm>
              <a:off x="30243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24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40056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00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771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777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533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53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298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298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060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06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826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82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577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6577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343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3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105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1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870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8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632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632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398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3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160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1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26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29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66880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668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04500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0450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4215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42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7981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79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1743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17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5505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55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9270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92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30364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303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67984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67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0560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05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4326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43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8091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28091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1853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185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5615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56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39381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93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31468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3146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254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0164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778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544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30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071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833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588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3540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1160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87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43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409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171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2933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66988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0464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4226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7988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1754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5519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9270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30364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16798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0560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24326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8091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1853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5615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93812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31468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3024360" y="722160"/>
            <a:ext cx="11666520" cy="9448920"/>
            <a:chOff x="3024360" y="722160"/>
            <a:chExt cx="11666520" cy="9448920"/>
          </a:xfrm>
        </p:grpSpPr>
        <p:sp>
          <p:nvSpPr>
            <p:cNvPr id="729" name=""/>
            <p:cNvSpPr/>
            <p:nvPr/>
          </p:nvSpPr>
          <p:spPr>
            <a:xfrm>
              <a:off x="3024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00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77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243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53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005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298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771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06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533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82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288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577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0500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3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815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1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6577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8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343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32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4105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3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7870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1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632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9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3984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6688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91604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0450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926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42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6688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79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90450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1743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42156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505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79812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9270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17432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3036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55052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6798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92708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205604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3036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43260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6798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8091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0560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1853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4326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56156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2809160" y="1243080"/>
              <a:ext cx="3762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93812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185360" y="1243080"/>
              <a:ext cx="3762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314680" y="722160"/>
              <a:ext cx="3762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254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16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778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544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298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0608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8264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6588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54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116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878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43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4092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1712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2933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6698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0464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94226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97981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17432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55052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9270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3036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16798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05604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43260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809160" y="1009800"/>
              <a:ext cx="3762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185360" y="1009800"/>
              <a:ext cx="3762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6084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9374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313600" y="1243080"/>
              <a:ext cx="3762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56156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93812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314680" y="1009800"/>
              <a:ext cx="3762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"/>
          <p:cNvGrpSpPr/>
          <p:nvPr/>
        </p:nvGrpSpPr>
        <p:grpSpPr>
          <a:xfrm>
            <a:off x="3024360" y="722160"/>
            <a:ext cx="11666160" cy="9448920"/>
            <a:chOff x="3024360" y="722160"/>
            <a:chExt cx="11666160" cy="9448920"/>
          </a:xfrm>
        </p:grpSpPr>
        <p:sp>
          <p:nvSpPr>
            <p:cNvPr id="826" name=""/>
            <p:cNvSpPr/>
            <p:nvPr/>
          </p:nvSpPr>
          <p:spPr>
            <a:xfrm>
              <a:off x="341532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243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0412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131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19292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019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817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907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7088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795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593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683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4848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5752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362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452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2500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3404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1380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228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0296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116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9140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004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805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68960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693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07804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85816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672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24696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85600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63576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2448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024920" y="1243080"/>
              <a:ext cx="38844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96336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41336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0224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8025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4115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11913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80000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580120" y="1243080"/>
              <a:ext cx="38844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11891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968920" y="1243080"/>
              <a:ext cx="388800" cy="8928000"/>
            </a:xfrm>
            <a:prstGeom prst="rect">
              <a:avLst/>
            </a:prstGeom>
            <a:solidFill>
              <a:srgbClr val="00008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15779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2357720" y="1243080"/>
              <a:ext cx="388800" cy="8928000"/>
            </a:xfrm>
            <a:prstGeom prst="rect">
              <a:avLst/>
            </a:prstGeom>
            <a:solidFill>
              <a:srgbClr val="cc0000">
                <a:alpha val="20000"/>
              </a:srgbClr>
            </a:soli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196676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274688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3555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13568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7443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52412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133520" y="722160"/>
              <a:ext cx="38844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13280" y="1243080"/>
              <a:ext cx="38880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52196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430208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9111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299920" y="722160"/>
              <a:ext cx="388800" cy="287640"/>
            </a:xfrm>
            <a:prstGeom prst="rect">
              <a:avLst/>
            </a:prstGeom>
            <a:solidFill>
              <a:srgbClr val="808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164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0520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194000" y="1009800"/>
              <a:ext cx="38844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828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716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6076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4956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372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526080" y="1009800"/>
              <a:ext cx="38844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1488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036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9284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0812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704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8592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248040" y="1009800"/>
              <a:ext cx="38844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63684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02564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4148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80360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19240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58012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cc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1968920" y="1009800"/>
              <a:ext cx="388800" cy="233280"/>
            </a:xfrm>
            <a:prstGeom prst="rect">
              <a:avLst/>
            </a:prstGeom>
            <a:solidFill>
              <a:srgbClr val="00008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357720" y="1009800"/>
              <a:ext cx="388800" cy="2332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7468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月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13568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5241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91328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4302080" y="1009800"/>
              <a:ext cx="38844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25440" y="1243080"/>
              <a:ext cx="388440" cy="8928000"/>
            </a:xfrm>
            <a:prstGeom prst="rect">
              <a:avLst/>
            </a:prstGeom>
            <a:noFill/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26520" y="1009800"/>
              <a:ext cx="388800" cy="233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31640" y="738360"/>
            <a:ext cx="2592720" cy="504720"/>
          </a:xfrm>
          <a:prstGeom prst="rect">
            <a:avLst/>
          </a:prstGeom>
          <a:solidFill>
            <a:srgbClr val="333333"/>
          </a:solidFill>
          <a:ln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  <a:ea typeface="メイリオ"/>
              </a:rPr>
              <a:t>2011/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31640" y="738360"/>
            <a:ext cx="14259240" cy="504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024360" y="738360"/>
            <a:ext cx="11666520" cy="9432720"/>
          </a:xfrm>
          <a:prstGeom prst="rect">
            <a:avLst/>
          </a:prstGeom>
          <a:noFill/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1:58:07Z</dcterms:created>
  <dc:creator>http://www.digipot.net</dc:creator>
  <dc:description/>
  <dc:language>en-US</dc:language>
  <cp:lastModifiedBy/>
  <dcterms:modified xsi:type="dcterms:W3CDTF">2011-01-25T02:50:23Z</dcterms:modified>
  <cp:revision>3</cp:revision>
  <dc:subject>ppt041_A3スケジュール表</dc:subject>
  <dc:title>ppt041_A3スケジュール表</dc:title>
</cp:coreProperties>
</file>